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70E7-52DC-4B78-92AF-7DE8F82A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AF10-7F7F-4D4B-AEBD-D6173AA8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72AD-78F8-4F5A-B93C-2DAC0D1C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303B-9CCF-4B95-8DFE-B1CC7D69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EB5A-6853-4CB7-9AF6-BB6FD3D8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0E71-7752-4EC9-B96C-EB4C694D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67F2-DEF5-46DC-A385-136DBAA5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673E-55B3-4D25-8CC8-3F0A7213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CBD3-3A90-48FD-99C4-314B7970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FFDB-20E5-4E15-9D77-720C3D53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551D-E019-475B-85D7-E69DD617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392D-0A31-4708-A3DF-DA94D07A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AE44-DEED-465F-B8EE-39A2B6BAA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Arial"/>
              </a:rPr>
              <a:t>adver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863640" cy="71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19640" y="4724280"/>
            <a:ext cx="4248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314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557360"/>
            <a:ext cx="828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000" y="24271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ok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4221000"/>
            <a:ext cx="19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und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7973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602136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eel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9640" y="4870440"/>
            <a:ext cx="808200" cy="81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116000" y="5157720"/>
            <a:ext cx="792000" cy="635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56000" y="1844640"/>
            <a:ext cx="27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action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170028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6000" y="3213000"/>
            <a:ext cx="576108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cc0000"/>
                </a:solidFill>
                <a:latin typeface="Arial"/>
              </a:rPr>
              <a:t>ad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ding to a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6000" spc="-1" strike="noStrike">
                <a:solidFill>
                  <a:srgbClr val="cc0000"/>
                </a:solidFill>
                <a:latin typeface="Arial"/>
              </a:rPr>
              <a:t>ver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Describing a ‘doing’ wor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515772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unning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cc0000"/>
                </a:solidFill>
                <a:latin typeface="Arial"/>
              </a:rPr>
              <a:t>quickly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NZ" sz="3200" spc="-1" strike="noStrike">
                <a:solidFill>
                  <a:srgbClr val="cc0000"/>
                </a:solidFill>
                <a:latin typeface="Arial"/>
              </a:rPr>
              <a:t>loud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noring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ating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cc0000"/>
                </a:solidFill>
                <a:latin typeface="Arial"/>
              </a:rPr>
              <a:t>noisily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limbing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cc0000"/>
                </a:solidFill>
                <a:latin typeface="Arial"/>
              </a:rPr>
              <a:t>hig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7:55:22Z</dcterms:created>
  <dc:creator>Ministry of Education</dc:creator>
  <dc:description/>
  <dc:language>en-US</dc:language>
  <cp:lastModifiedBy>Ministry of Education</cp:lastModifiedBy>
  <dcterms:modified xsi:type="dcterms:W3CDTF">2007-04-21T09:40:05Z</dcterms:modified>
  <cp:revision>18</cp:revision>
  <dc:subject/>
  <dc:title>Simile</dc:title>
</cp:coreProperties>
</file>